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100-3B7D-4DA1-98F9-2330C9C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9BC-4CD4-4880-BA53-745EB4C3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537-026D-4E57-A3DB-5FA932FA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007-22BA-4820-BCFD-7B7E34FF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55CD-E9C4-4DC2-9BC6-15AE667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A38-F69C-407C-B40E-229629F2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9CE-BCED-4AF4-BAF3-5B9D422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2694-D281-4B78-9897-9749A73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B622-78FA-419F-AFAF-4B973D3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DD07-9FB2-4B86-A2BA-207383C8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486C-81F8-4779-B745-E340C95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838-3A99-43BC-A02C-B338DED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3966-7101-48B0-A656-5BD3869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27A4-D147-4891-8B68-2BF2B60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8252-BADF-421A-9280-C0838E5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07C-F1C1-4741-8D5C-4379CE34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331E-B07A-40E3-869A-74A20525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6F7-30E5-4479-A4B6-180EDEB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85D-9337-4188-9185-BF1C42A8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9D4-533C-4FCD-ABDF-C9A3D0F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841-3C36-46FE-8756-51DCF86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418-CC18-4757-B008-CCDF8E88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FEC-9842-44DE-BA96-E69388E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01F-284D-4A21-AB79-7205687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6ABA-0F8E-4F82-BBA6-3AE858FDBC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88BA-FC26-489D-A793-20AC9795B4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Grades 7/8 Breakout Session 2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d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viewing the MATCH templat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ching problems/tasks/questions to each of the three part less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alyzing assessment task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arning log refle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sentence strips provided to you on entry to the room form groups based on which part of the three part lesson the sentence strip descri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information with the group and then divide into groups of three to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ich of the three parts of a lesson each of the 6 questions/task/problems related to the same learning goal is best su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justify your decisions to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 within your group analyze the provided assessment tasks from different text books related to operations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ask best assess whether a student has achieved the lesson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nother pair/small group to shar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Learning log Entry: Letter home from C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home describing an aha moment, a question you still have, something you will apply in your practice, or something that you understand at a deepe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6T21:36:29Z</dcterms:modified>
  <cp:revision>132</cp:revision>
  <dc:subject/>
  <dc:title>Slide 1</dc:title>
</cp:coreProperties>
</file>